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A7C-3575-4214-94BD-2323FCC7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52E-B581-4CF9-807A-55794F49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D2A04-DC61-4DAD-AA19-3A43A250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49640-AB9E-4957-B668-21D19314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DECDB-AF20-4110-A633-C079EC3A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26A65-8370-431B-8A86-44FA3BAB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3FE6E-838D-4537-B1C4-FF98C900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25C83-7839-40D6-93ED-570D91E0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C9E52-754C-4E28-AE80-0F0E6840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409DB-AEF1-4E2E-9592-A17DC300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3B0D1-FD87-4C62-9BE3-C46F58B6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65DE6-B40A-4F1B-BA8E-15517518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153-4692-41CF-B125-93DC78E9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FBB4D-75AF-41AB-A004-680729EB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CA7CA-F81C-47E6-B557-66192ABC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49D27-31AD-4E02-A7B7-744B399F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BC064-2770-4A93-8B67-C9D15B13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654ED-1148-4058-BA3C-DCF328DE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989BE-EDB8-4C75-BDF2-4249A6B1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6ECA0-0523-474F-BF28-54016C71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4F8AB-13A2-429C-B673-528BF79D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C48C7-62A3-4A8E-9BD0-EB809128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A1D26-1ED0-4C28-9E70-1A69E540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1C1-C920-47C9-A62D-691DA5E0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88743-D6A5-42E6-807B-952C085D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4856E-D179-4DA4-942E-C8FC860C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F31AD-FCE2-4616-A053-F67CA111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3F83C-E0C3-4E99-9C05-E53F12CC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7F720-CDFE-42D3-8728-AF548129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69403-D8D1-4DC1-9141-CDD064FF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F658E-4F7F-47AD-B67F-7F7F8921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313B9-50DC-4E76-8619-A36B9C87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42B51-B8FF-468F-94A0-518AB96A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A9E1E-9CD6-40B0-8CA8-2F300DAF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F48F-E6AD-4E71-A5C2-86224B05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BCF5E-0073-4F4C-AE6F-77D564AC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12813-397D-475D-8CC4-0AC1E907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5BFAB-279C-4330-BB50-ED24C296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30BED-F4BE-4E57-B722-C6156913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CA868-C005-4E8B-89BB-D9AB6A24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CD59E-FB04-4F64-9B37-9716FBDD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748D4-2BFF-4D74-8D34-3FBE6540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C4269-52CD-45C8-8BF6-0C46BC9E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28777-FE9A-49F7-9544-EBDF1839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8D14F-A4DE-4073-837D-A79BD91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2BCE-DF9D-4B88-8335-338469E0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9A5BB-186D-47AA-83D4-A611F50C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CC25A-36F1-4143-AAE6-38990A40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259AC-9090-4476-981B-C7261EE1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718E3-30B7-41FF-8AF9-939ACAB2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8A8A2-D5DF-4685-BCF7-A0D895FF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B1B79-1F3C-4C66-AE7F-9DD281F7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17E62-C574-40B9-AE1A-8212E108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7A035-EDC6-41F6-B285-B84EFBB1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ED93D-5097-48BF-A899-9CA3E48C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23DB7-45B7-442B-B5BC-DD98BEAD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262A-11C6-4283-A5C7-E7FCAC04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28372-CE58-4ED1-AFB8-95DE597F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E80F0-CDA5-48A1-A235-0F5FC52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F5B2A-6BAE-4545-A9B5-7AD4C05D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22C37-D221-441D-A02E-CFF93FC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867AC-3F81-46F4-8340-BDC76033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60922-E679-4222-A589-E3633B05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8ECC7-0D52-41EF-8EE0-21996244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208F0-6D6A-475F-898D-D7AD04EC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1EDB0-FB99-4A0F-942A-0A0225DA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C9EC2-0514-43CB-AACE-7F06594E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C29A-CE32-40CD-9E4F-3A513E03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228CB-83A7-415F-A63C-9384D9FF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3CA62-27E5-473B-935D-737D6BBA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BB315-A331-4267-A56A-6B9C0068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BDAAA-4718-4FF4-998B-4D00D7C8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ACA01-6E37-40AD-B766-605F862D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BD04A-CB43-4E51-B983-3E41B62F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8960D-EEF7-4999-914D-D0EA13D0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B1460-48BB-45B3-B6AB-37D2D141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9D6E7-82DE-4A00-B91E-3542B07E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6D741-1A79-47A7-81E8-C4CE1D41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D89E-8C08-4635-A13D-FC9A806E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BD5D8-639C-4F86-A217-B2E725DA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B2D45-0B46-4608-A159-9622F3C8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7953A-BB7D-429B-AFC6-4299061E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30E90-7567-48DF-9139-7046688C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E8262-B8F7-4187-98F7-1A9C7BAA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B9909-2023-48C7-A1D6-27557477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4E061-4016-4CB0-8979-5CBF30FA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D7130-50B5-438A-B320-39312FC7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FFC5E-C790-4CAC-85A2-4E9B670A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4AB64-EEC2-4AFF-A041-DD70FB94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4321-C109-4F60-ACCE-F7384D46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EFDA2-4256-4A51-89CD-F1B96F6B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A6CAD-FBDA-497E-91DC-0FD4EC0C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8A472-18CF-41E3-A469-36A68EEA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AED50-4F58-4508-ABC2-638CE4B2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743E54-0425-4FED-AD07-7DF8BF28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B88C9-5658-43D5-AE82-1CAD890D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1E73AC-A102-4EFE-BFB7-C90A1DD1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AB7E0-D927-4636-9D57-18008934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95027-215A-4491-9066-1F110522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AC48E-42B9-48FC-A192-A92BD3FB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8879-4239-4735-A93D-ECB75F4B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6159D-0BE6-4B34-8A9B-E0B1A156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B7B61-C46C-4239-BFE5-9111A0B1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3BEDA-C0A6-4405-BC85-F6F037DA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DD992-9EE4-4546-ACE1-740597C6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66FC08-EB9C-487B-AFD8-C12670DB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1C961-CDDC-4D49-A789-50972537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E395ED-F1A2-4BA5-A000-E2548339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7BBE1-2DB2-4851-96C6-C5813179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66541-EE71-4EA0-B104-5DAF7450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CE009-AB7E-48F9-A67A-C774FB23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79D-64E8-487A-BDB8-BC9ADD5F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AC25-B8FF-4FD1-8DF1-92E952CF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2DCC6E-902F-40AE-97FC-67E00A1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F9105-1D1B-4229-AA71-962EB356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AA1EE8-2259-4C4F-8E64-38ED30E6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D510A0-9D35-4D6E-8C57-127642BF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75F0E-A749-4A90-AF58-6205353B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55B3EB-A638-45E4-97C6-E5FF69E6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F3532F-EBC7-4554-9D08-D9340CFE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25224-EEBA-4F54-8F76-A0EADFE4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809649-81A6-4751-B47F-B2E0FDBC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2CFAE8-C8BF-4E8C-9ED3-16597A33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4B24-253B-490A-8BA5-AF2CDD68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3C0CB-9EAE-45CB-A46B-B0F73472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D9A21-B1D1-4B84-AECC-C6D5250E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C301C-72CF-4034-BDA6-C80AD8B0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F2D02-CB27-4513-AD96-C99D1478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DDF2C-8474-4C8D-8EB1-A9CB2A2E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F2A14-65F4-4A87-AF2B-24CABF54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F3963-D6BF-442B-A1A7-6334DC29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C3DCCB-7BDF-4C88-8B0E-D2C8A511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1E3D7-B198-430E-B1EA-831FE5E5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6C231B-F45C-4A50-AFBD-BD679991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B6FA-6D73-4B96-A469-6BBC4F13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1866FF-3CCB-458D-A299-DF7614F5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D5FA4B-E3C3-4462-9CAC-8E8CB48A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FC936-8711-42C8-9B84-43A61021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CA41A-6795-4998-BC70-FDD958AB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8C8AD5-B9B3-47F8-B869-D8163AAD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6958F-42FF-4E09-A431-441B93D3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7EA88-5F21-4509-8A91-5E4F22A7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EC757-BC04-4107-A6B3-375922DF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94894-6F0B-4BE1-823F-C24C58FA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02905F-0F4C-492D-82D7-40B19EF0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2D42-2753-4CFD-A827-F09EE630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2F71E7-F196-4EE8-A460-52A8557E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F737B0-8978-4DD9-9838-7592A8D3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FEAA6-4A4C-48A3-BF40-9D1904DD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BA5BAF-6DF2-4D5D-8235-9087D117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AB1C37-4267-4331-9738-6D992CE3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846E34-1F68-4D1B-BAE6-6EC67448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CCF12C-BFBF-4933-AA9E-2600B2D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01BF2-3CC3-4264-B227-C972A430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280360-81E9-4F89-B323-3E412BC0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E3CE49-2875-43C6-9D77-01176E1F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2881-4E12-4A54-AFEE-2114164E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EE6F7-BD02-4B16-AA24-184F445B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757EE-D78F-44D6-A1A1-3A87352A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94D93-E0F8-4B2B-8BEA-0366C40D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DA6B58-3095-4265-B0E8-4855A101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A925BC-CC03-4431-B01A-164E2218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1DA581-EDC7-4598-80C8-1783B534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9713C-3012-48D2-9D76-3F467F23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CF160-C766-4B22-9622-B6D8CEB2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316D9E-86C1-4BED-8B7E-EAF1B709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1B15E7-16BD-416E-A5DF-CB7816FB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86AAB5-CAEA-45F8-9256-93E1F60F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95A009-C01F-45D9-A575-D9CB433A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15830-E34B-4C4C-B7FB-97850616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0C0-770D-4AD4-A02A-76A3158A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FF0E2-ADE1-4755-81CE-D92BFE09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703E4-E66B-4587-8D5E-89676C89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570C-15CE-46B8-B8E8-B5CBF19C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09F-A413-47A7-87B7-D716E6F2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F8AC-5CDE-4D07-A2C9-07BDF2B4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3C66-8DAA-4E35-8795-2982E11D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C60A8-9487-4C45-84E6-796F7C94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478F9-963C-4F68-9A6F-426BC592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CF0A-8E03-45EA-BF3E-4CCEDB80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8E9D7-57E4-430C-A4B1-4D94B99F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EE8D-5567-4E2E-A74A-9025EBA4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151BD-13E3-4D99-9517-CFC276B8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7947-2F0B-4FFF-B98D-774E4D94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1FBEA-710E-4813-B593-B5B2B2EF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691-B1EC-4B73-BF25-2CF007D7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08812-C341-4B95-BB52-02549505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D4680-B90C-4B2C-9C7D-0DA52B05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7F05-4207-4750-8676-0FA66160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728B1-BF08-4917-91D2-9458B4BB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966B6-1401-4D04-8768-1F922735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0190-A785-46DF-A7AD-80E0D543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7C24-874A-402C-A7AF-76700F09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CBFD8-4CF9-4ED7-9B83-70CADC14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6B2EE-36B1-4EA3-B3BE-B8D59148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0B5FF-BBDD-4CA1-9FC2-9C83BA07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B1A-EA1B-42CC-917D-4F579737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88EE9-92F3-484E-AE1D-E64C5CDA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777F1-6ECE-44EC-A468-30414F57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EE042-D287-4CE7-A66A-1026C5BB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75C5B-22AA-4DAB-B3F3-C953FCF3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25564-9344-499C-8445-2DA11A95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9645-A01D-4D50-97C9-CB520E27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A22B-01B0-4DA7-9083-E9EBC739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E3D9D-F2BF-4AEB-9DF0-B3139183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56C56-8708-4AF2-9D72-ABB12BC3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DCA95-4217-4BB4-803E-933AA7DD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575-1353-4358-9237-A70428BB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35A94-4157-4501-B4D1-FB390EF9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F3277-903B-48D4-B010-D121BBE4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489E4-F329-4BB9-B6EB-1CDBAE66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5BB5E-57E1-4B7B-9189-5E6E180B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DE767-4C60-44F8-80CD-05961C3F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A205D-3C69-468C-BCCD-4C256392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BE996-D684-4953-9083-FD8E9A0A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110CC-7B25-49DF-B2CD-BAAF74DC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E8925-9BC4-47A6-A594-98583F9B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06D95-DB76-4027-8EAD-EA82DA7D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737-6CFD-4CD0-9759-7FD17B6A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7AF04-FF8E-4170-8D99-8DB379B5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47BB2-E1F4-4796-A680-76E6B023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90750-87ED-44D1-B9CF-D3A8B1F6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077E3-B389-4AC2-85A5-919DFF4C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D331F-BCFA-4785-A256-74CCB0F2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CA62-7302-4856-AD03-9F1A5606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C3D37-E5F0-4AD2-9A64-53CBA9DB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508E1-EB65-4DB0-A7BE-3D038002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262EC-0540-4EF3-9C16-BF91C391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9A2F5-6668-4E46-9F5A-33582C68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CC8-0941-4E16-BBD9-31C07F6B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2AEA7-8EE8-42CA-A485-8095C1FD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432E4-94D4-444D-A996-F3BF4D19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C9F82-66C1-42AE-8012-A15726F6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22E39-38DD-4426-A5ED-7AD1357E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20766-B126-4511-9158-92479E91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30BF9-FFB2-415C-832F-5152BA58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8B1B7-3DE5-4242-9713-680E96EF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4D895-004D-49EA-BB16-FE07A46D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AE28A-3AE3-4A35-BE36-8770AC88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682B4-06E4-42A3-9754-5CBC04F3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044D-D17E-489B-9D4F-228FCBE84A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56ED-69B4-412A-82E5-2BCF8900DD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47DE-B306-429D-A3C7-CD48CB64E3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C14B-930C-4997-B664-951DBAD1AF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8365-19D4-44BA-9AA1-C6430ED51D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4B9B-7A2C-4C03-8D37-46E9353379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9D58-7E85-458F-A3B7-E953C1DB4C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CB9F-4FC5-4884-B54C-C3F1AC80BE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CCFF-CA2B-4D35-AD67-DC30202B79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F6B5-BFE7-4BAB-AF1F-33F9DAB61D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2D25-BBAB-46C8-BF1E-DDAF8859C2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6A09-9953-43B6-91C0-C25455BBAA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F5EB-6512-4F0F-8713-C1CC6617A9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2B76-94A5-48B7-A0DA-A454F37404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1DD0-B6B7-4C44-9886-B47F06DD83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8DCA-BDB9-4921-AF6B-DA01FF49DA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138F-9C05-4E76-B3FA-6E9A4ACA4A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D995-D087-4DA8-AD5D-0E7F1C28B5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3B5D-A393-42B6-8CA0-E5A6C492F4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82F5-5AB7-487B-B261-CCF1ED170F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2891-C871-47A9-8828-532DC3C00D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7875-7B90-40B2-99F1-C8CF598D50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CCEE-186A-4FE4-95DB-197AA73BA6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8DC2-7034-4D0A-BBD8-4B4E9BD9C8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9635-820A-446C-AC8F-E079CE2E49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A534-DD63-49EB-8127-E98827F8C5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BCAA-63DE-4BEC-A574-7F82F62FC4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6061-02F0-495E-A7F0-CA598D1984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88F6-65C1-4882-9AAF-D2D4B21127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37A7-B221-4670-9503-EA5487C51D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9BE4-037C-41D0-95ED-32780CFD99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A9B3-3E65-4209-8C79-9870D286F2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0BA0-55DD-4E41-92E5-D3007998FB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1611-4E86-4307-A9C5-EBF9E32A84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3E97-0422-4992-AD5A-4EE5D065DF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B1F1-448D-483B-BF98-BF25C8E3CC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EC0A-BDD9-420D-B7E8-FB8DD080A1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4223-DF1D-4BB1-9829-97388BAEB1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FA89-EACD-48B7-818E-065FA4E71C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1" name="组合 2055"/>
          <p:cNvGrpSpPr/>
          <p:nvPr/>
        </p:nvGrpSpPr>
        <p:grpSpPr>
          <a:xfrm>
            <a:off x="306360" y="1916280"/>
            <a:ext cx="8658360" cy="2376360"/>
            <a:chOff x="306360" y="1916280"/>
            <a:chExt cx="8658360" cy="2376360"/>
          </a:xfrm>
        </p:grpSpPr>
        <p:pic>
          <p:nvPicPr>
            <p:cNvPr id="1022" name="图片 2052" descr=""/>
            <p:cNvPicPr/>
            <p:nvPr/>
          </p:nvPicPr>
          <p:blipFill>
            <a:blip r:embed="rId1"/>
            <a:stretch/>
          </p:blipFill>
          <p:spPr>
            <a:xfrm>
              <a:off x="306360" y="2205000"/>
              <a:ext cx="865836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图片 2053" descr=""/>
            <p:cNvPicPr/>
            <p:nvPr/>
          </p:nvPicPr>
          <p:blipFill>
            <a:blip r:embed="rId2"/>
            <a:stretch/>
          </p:blipFill>
          <p:spPr>
            <a:xfrm>
              <a:off x="1066680" y="3645000"/>
              <a:ext cx="7010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Picture 1" descr=""/>
            <p:cNvPicPr/>
            <p:nvPr/>
          </p:nvPicPr>
          <p:blipFill>
            <a:blip r:embed="rId3"/>
            <a:stretch/>
          </p:blipFill>
          <p:spPr>
            <a:xfrm>
              <a:off x="900000" y="1916280"/>
              <a:ext cx="2303640" cy="32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3313" descr=""/>
          <p:cNvPicPr/>
          <p:nvPr/>
        </p:nvPicPr>
        <p:blipFill>
          <a:blip r:embed="rId1"/>
          <a:stretch/>
        </p:blipFill>
        <p:spPr>
          <a:xfrm>
            <a:off x="1380960" y="1405080"/>
            <a:ext cx="638208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图片 14337" descr=""/>
          <p:cNvPicPr/>
          <p:nvPr/>
        </p:nvPicPr>
        <p:blipFill>
          <a:blip r:embed="rId1"/>
          <a:stretch/>
        </p:blipFill>
        <p:spPr>
          <a:xfrm>
            <a:off x="581040" y="1447920"/>
            <a:ext cx="7981920" cy="39621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2268360" y="14968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2268360" y="21589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2340000" y="35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5"/>
          <a:stretch/>
        </p:blipFill>
        <p:spPr>
          <a:xfrm>
            <a:off x="2340000" y="48229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5361" descr=""/>
          <p:cNvPicPr/>
          <p:nvPr/>
        </p:nvPicPr>
        <p:blipFill>
          <a:blip r:embed="rId1"/>
          <a:stretch/>
        </p:blipFill>
        <p:spPr>
          <a:xfrm>
            <a:off x="90360" y="1728720"/>
            <a:ext cx="8963280" cy="34005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1258920" y="3263760"/>
            <a:ext cx="475308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1187280" y="4581360"/>
            <a:ext cx="4753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1" name="图片 16385" descr=""/>
          <p:cNvPicPr/>
          <p:nvPr/>
        </p:nvPicPr>
        <p:blipFill>
          <a:blip r:embed="rId1"/>
          <a:stretch/>
        </p:blipFill>
        <p:spPr>
          <a:xfrm>
            <a:off x="423720" y="1495440"/>
            <a:ext cx="8296560" cy="38671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1187280" y="2185920"/>
            <a:ext cx="612144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900000" y="3500280"/>
            <a:ext cx="612144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900000" y="4856040"/>
            <a:ext cx="6121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图片 22529" descr=""/>
          <p:cNvPicPr/>
          <p:nvPr/>
        </p:nvPicPr>
        <p:blipFill>
          <a:blip r:embed="rId1"/>
          <a:stretch/>
        </p:blipFill>
        <p:spPr>
          <a:xfrm>
            <a:off x="190440" y="1154160"/>
            <a:ext cx="8763120" cy="4867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2411280" y="2001960"/>
            <a:ext cx="115272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3924360" y="2682720"/>
            <a:ext cx="180000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476360" y="3403440"/>
            <a:ext cx="158292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3314880" y="4076640"/>
            <a:ext cx="15825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181560" y="4775040"/>
            <a:ext cx="15829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21505" descr=""/>
          <p:cNvPicPr/>
          <p:nvPr/>
        </p:nvPicPr>
        <p:blipFill>
          <a:blip r:embed="rId1"/>
          <a:stretch/>
        </p:blipFill>
        <p:spPr>
          <a:xfrm>
            <a:off x="547560" y="1305000"/>
            <a:ext cx="8048880" cy="42480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619280" y="2205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619280" y="4292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20481" descr=""/>
          <p:cNvPicPr/>
          <p:nvPr/>
        </p:nvPicPr>
        <p:blipFill>
          <a:blip r:embed="rId1"/>
          <a:stretch/>
        </p:blipFill>
        <p:spPr>
          <a:xfrm>
            <a:off x="657360" y="1424160"/>
            <a:ext cx="7829280" cy="40096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8193" descr=""/>
          <p:cNvPicPr/>
          <p:nvPr/>
        </p:nvPicPr>
        <p:blipFill>
          <a:blip r:embed="rId1"/>
          <a:stretch/>
        </p:blipFill>
        <p:spPr>
          <a:xfrm>
            <a:off x="1152360" y="2066760"/>
            <a:ext cx="6839280" cy="2724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9217" descr=""/>
          <p:cNvPicPr/>
          <p:nvPr/>
        </p:nvPicPr>
        <p:blipFill>
          <a:blip r:embed="rId1"/>
          <a:stretch/>
        </p:blipFill>
        <p:spPr>
          <a:xfrm>
            <a:off x="262080" y="1014480"/>
            <a:ext cx="8619840" cy="48290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3348000" y="47084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0241" descr=""/>
          <p:cNvPicPr/>
          <p:nvPr/>
        </p:nvPicPr>
        <p:blipFill>
          <a:blip r:embed="rId1"/>
          <a:stretch/>
        </p:blipFill>
        <p:spPr>
          <a:xfrm>
            <a:off x="466560" y="2467080"/>
            <a:ext cx="8210880" cy="1923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720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2289" descr=""/>
          <p:cNvPicPr/>
          <p:nvPr/>
        </p:nvPicPr>
        <p:blipFill>
          <a:blip r:embed="rId1"/>
          <a:stretch/>
        </p:blipFill>
        <p:spPr>
          <a:xfrm>
            <a:off x="371520" y="1714680"/>
            <a:ext cx="8400960" cy="34290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3348000" y="31543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1265" descr=""/>
          <p:cNvPicPr/>
          <p:nvPr/>
        </p:nvPicPr>
        <p:blipFill>
          <a:blip r:embed="rId1"/>
          <a:stretch/>
        </p:blipFill>
        <p:spPr>
          <a:xfrm>
            <a:off x="433440" y="1519200"/>
            <a:ext cx="8277120" cy="38196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3995640" y="2205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3492360" y="41752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7:00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